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8A9-CB31-421B-BB9B-9D212BB3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DC9-C781-4693-ABD4-6251DB12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C7AF-AA83-4B6A-8D2A-CBB9F76F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6885-C0F7-40F4-BF4D-026A5E17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C7A-0ABD-4392-9DA5-39FFCDD6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A50-8B8A-4103-ADCC-601CA9C2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30EE-6D21-40CB-A53B-2D46AFD6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C31-1738-46CC-A1AC-94E50726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94D3-B31F-4F99-820A-535B1936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35E-0C6B-4DED-88EF-DE25E01A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9FC-0EDB-447F-8713-00F60835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8EE-2690-4FB3-BE89-4D16EBBD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D4D3-2341-484E-A6DF-0C2D02E7A95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ALA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IALA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25DF-A717-41B0-8759-42EBBCCDE57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2159-74AA-4E36-97BF-2D43FF4A019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g00000c687777.tmp" descr="C:\Users\phild\AppData\Local\MindMaple\Temp\Img00000c687777.tmp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5:03:11Z</dcterms:created>
  <dc:creator>PhilD</dc:creator>
  <dc:description/>
  <dc:language>en-US</dc:language>
  <cp:lastModifiedBy/>
  <dcterms:modified xsi:type="dcterms:W3CDTF">2013-05-01T08:37:40Z</dcterms:modified>
  <cp:revision>3</cp:revision>
  <dc:subject/>
  <dc:title>IALA Documentation</dc:title>
</cp:coreProperties>
</file>